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73C3-F4DC-410B-9166-959308B6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B3A4-9680-4143-AEE0-42BB2BC3A8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2014-38AD-43DA-8016-C649F41921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9A44-635A-4772-8362-9C8F1CD764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ABED-C30A-4C04-9DE2-3DDC5744E4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15C0-2727-490B-BA3F-8F0C52B277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CB88-60DA-4E4E-8646-C8ED363EE7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D369-E240-49DB-B838-FA32CD1559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FB00-4011-4297-B4F5-2C7451A35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EA8B-6361-442F-ADB0-7E3B684FAA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95F9-2177-4E18-9A21-68824EC169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E129-D088-42A5-AE75-2D6F6DB333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AD71-5377-4674-9AB7-555129EBD3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A007-B94D-4B95-82D3-5BDB274EB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7A70-F01D-456B-A9E5-AFFC317FEE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D7BD-72A3-40A7-AFD8-180B33A8B0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E777-4201-4AFF-B357-48A3D387D2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F07B-1A98-4620-B807-B7A1281AE0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F252-2886-4631-AD07-4C8964C37A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FAB8-8625-49A3-97C3-C6452BEE39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352-34C5-4E3A-9960-23DF57B6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9DE-6EE0-48B2-85B5-4037C04E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CBE-4B27-4AEE-8AD3-F9CF9F6D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9A4A-F663-479B-8F29-2E35A5CD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2E33-F8E0-498B-B00E-C141090E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69E7-4795-406C-8B2B-0FCB3C63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619E-C1EB-4298-BD9F-10D7A19D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7E3-C435-4548-BFBA-7F464477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25C-DF73-429D-87D4-BAC2DC37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D63-030D-4C64-A9D2-DB731BA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EA0B-0025-4DF0-BB05-3491E1B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625-7B1B-4ADC-AF27-D8BF304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E4BB-3D3F-4F30-B672-E9E1EE7B226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eTXinehtGw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ightyblogs.com/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cagle.msnbc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oliticalcartoons.com/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Semibold"/>
              </a:rPr>
              <a:t>Selecting a President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untitled"/>
          <p:cNvPicPr/>
          <p:nvPr/>
        </p:nvPicPr>
        <p:blipFill>
          <a:blip r:embed="rId1"/>
          <a:stretch/>
        </p:blipFill>
        <p:spPr>
          <a:xfrm>
            <a:off x="1523880" y="1143000"/>
            <a:ext cx="6248520" cy="4870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828800" y="525744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Nominat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Democratic Party Rules: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wo Types of Delegat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02" name="Picture 16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150920" cy="91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9"/>
          <p:cNvSpPr/>
          <p:nvPr/>
        </p:nvSpPr>
        <p:spPr>
          <a:xfrm>
            <a:off x="762120" y="5867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Osaka"/>
              </a:rPr>
              <a:t>Pledged Delegate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Osaka"/>
              </a:rPr>
              <a:t>v.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Osaka"/>
              </a:rPr>
              <a:t>Superdeleg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0" descr="untitled"/>
          <p:cNvPicPr/>
          <p:nvPr/>
        </p:nvPicPr>
        <p:blipFill>
          <a:blip r:embed="rId2"/>
          <a:stretch/>
        </p:blipFill>
        <p:spPr>
          <a:xfrm>
            <a:off x="7696080" y="533520"/>
            <a:ext cx="990720" cy="99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5" name="Picture 21" descr="untitled"/>
          <p:cNvPicPr/>
          <p:nvPr/>
        </p:nvPicPr>
        <p:blipFill>
          <a:blip r:embed="rId3"/>
          <a:stretch/>
        </p:blipFill>
        <p:spPr>
          <a:xfrm>
            <a:off x="1676520" y="1752480"/>
            <a:ext cx="5678280" cy="401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untitled"/>
          <p:cNvPicPr/>
          <p:nvPr/>
        </p:nvPicPr>
        <p:blipFill>
          <a:blip r:embed="rId1"/>
          <a:stretch/>
        </p:blipFill>
        <p:spPr>
          <a:xfrm>
            <a:off x="3962520" y="1295280"/>
            <a:ext cx="4997160" cy="3822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ledged Delegat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886200" y="5029200"/>
            <a:ext cx="5105520" cy="3070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ledged delegates count during the 2008 Democratic primar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69000" indent="-369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ach state allotted  certain number of                                                         delegates who vote at                                                              the par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con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000" indent="-369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ledged delegates are                                                       chosen at state &amp;  loc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000" indent="-369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ledged delegates are                                                    required to cast a vote                                                               at the convention                                                                 based on the results                                                                   of the primary or caucus in their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121932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embers of 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mocratic Party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establishment who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rve as unpledged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delegates at 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arty convention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clude members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of Congress,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governors, and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embers of 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D.N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y are free to vote for any candidate at the co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2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Superdelegat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4" name="Picture 15" descr="untitled"/>
          <p:cNvPicPr/>
          <p:nvPr/>
        </p:nvPicPr>
        <p:blipFill>
          <a:blip r:embed="rId1"/>
          <a:stretch/>
        </p:blipFill>
        <p:spPr>
          <a:xfrm>
            <a:off x="4191120" y="1828800"/>
            <a:ext cx="4680000" cy="379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Convention Speeches: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The Keynote Addres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peech given at the convention that embodies that par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core mess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029200" y="42670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Democrat Zell Miller delivers the         2004 RNC  Keynote Add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38080" y="426708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Senator Barrack Obama gives the        2004 DNC  Keynote Add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2" descr="untitled"/>
          <p:cNvPicPr/>
          <p:nvPr/>
        </p:nvPicPr>
        <p:blipFill>
          <a:blip r:embed="rId1"/>
          <a:stretch/>
        </p:blipFill>
        <p:spPr>
          <a:xfrm>
            <a:off x="685800" y="1523880"/>
            <a:ext cx="3746520" cy="275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untitled"/>
          <p:cNvPicPr/>
          <p:nvPr/>
        </p:nvPicPr>
        <p:blipFill>
          <a:blip r:embed="rId2"/>
          <a:stretch/>
        </p:blipFill>
        <p:spPr>
          <a:xfrm>
            <a:off x="4952880" y="1600200"/>
            <a:ext cx="3594240" cy="271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Convention Speeches: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The Acceptance Addres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48765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peech given at the final day of the convention in which the winning candidate formally accepts the par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nomination for presid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Acceptance Address is always televised by the major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12649320" y="3809880"/>
            <a:ext cx="4724280" cy="35686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1066680" y="43434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1960 presidential candidates John F. Kennedy and Richard M. Nixon deliver their Acceptance Addresses at their party’s national conven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5" descr="untitled"/>
          <p:cNvPicPr/>
          <p:nvPr/>
        </p:nvPicPr>
        <p:blipFill>
          <a:blip r:embed="rId2"/>
          <a:stretch/>
        </p:blipFill>
        <p:spPr>
          <a:xfrm>
            <a:off x="990720" y="1523880"/>
            <a:ext cx="7138800" cy="2781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untitled"/>
          <p:cNvPicPr/>
          <p:nvPr/>
        </p:nvPicPr>
        <p:blipFill>
          <a:blip r:embed="rId1"/>
          <a:stretch/>
        </p:blipFill>
        <p:spPr>
          <a:xfrm>
            <a:off x="1371600" y="380880"/>
            <a:ext cx="6453360" cy="43308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4724280"/>
            <a:ext cx="861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Georgia"/>
              </a:rPr>
              <a:t>Critics say that party nominating conventions have become no more than infomercials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362320" y="4343400"/>
            <a:ext cx="4495680" cy="2764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92 Democratic National Convention in New York C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692800" y="5867280"/>
            <a:ext cx="37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eorgia"/>
                <a:ea typeface="Osaka"/>
              </a:rPr>
              <a:t>What do you thi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on’t Stop…the Campaign So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Bill Clinton 1992 National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for discus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lyrics, identify possible ways Clinton is trying to connect to the vo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emographic groups is the Clinton campaign trying to appeal to with this so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ampaign song would you choose for Obama/McCain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191120" y="6248520"/>
            <a:ext cx="4114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Times New Roman"/>
                <a:hlinkClick r:id="rId1"/>
              </a:rPr>
              <a:t>http://www.rightyblog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1920 Republican Conven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281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oday candidates secure their party’s nomination during the pri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But in 1920 there was no clear nominee going into the Republican Con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5" descr="untitled"/>
          <p:cNvPicPr/>
          <p:nvPr/>
        </p:nvPicPr>
        <p:blipFill>
          <a:blip r:embed="rId2"/>
          <a:stretch/>
        </p:blipFill>
        <p:spPr>
          <a:xfrm>
            <a:off x="2971800" y="1143000"/>
            <a:ext cx="5894280" cy="506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47920" y="6095880"/>
            <a:ext cx="6400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 Patrick Chappatte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he International Herald Tribune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  09/21/2004             http://www.politicalcartoons.com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chwarzenegger Rocks Republican Convention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43" name="Picture 11" descr="untitled"/>
          <p:cNvPicPr/>
          <p:nvPr/>
        </p:nvPicPr>
        <p:blipFill>
          <a:blip r:embed="rId1"/>
          <a:stretch/>
        </p:blipFill>
        <p:spPr>
          <a:xfrm>
            <a:off x="1166760" y="804960"/>
            <a:ext cx="6808680" cy="52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untitled"/>
          <p:cNvPicPr/>
          <p:nvPr/>
        </p:nvPicPr>
        <p:blipFill>
          <a:blip r:embed="rId1"/>
          <a:stretch/>
        </p:blipFill>
        <p:spPr>
          <a:xfrm>
            <a:off x="304920" y="228600"/>
            <a:ext cx="8548560" cy="6415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1073160" y="6291360"/>
            <a:ext cx="7227720" cy="30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y Paresh Nath,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National Heral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, New Delhi, India 3/17/08 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hlinkClick r:id="rId2"/>
              </a:rPr>
              <a:t>http://cagle.msnb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08 -- The Final Three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untitled"/>
          <p:cNvPicPr/>
          <p:nvPr/>
        </p:nvPicPr>
        <p:blipFill>
          <a:blip r:embed="rId1"/>
          <a:stretch/>
        </p:blipFill>
        <p:spPr>
          <a:xfrm>
            <a:off x="914400" y="457200"/>
            <a:ext cx="71010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243792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1:  Caucuses &amp; Primaries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he Battle for the Party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2:  Nominating Conventions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“Glorified Infomercials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3:  General Election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he Fight for th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4:  Electoral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Power to the Peo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Copperplate Gothic Bold"/>
              </a:rPr>
              <a:t>Presidential Sele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4952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perdelegat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 rot="46200">
            <a:off x="2209680" y="1142640"/>
            <a:ext cx="364968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762120" y="6553080"/>
            <a:ext cx="7543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 John Trever,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The Albuquerque Journ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03/30/2008  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hlinkClick r:id="rId1"/>
              </a:rPr>
              <a:t>http://www.politicalcartoons.com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untitled"/>
          <p:cNvPicPr/>
          <p:nvPr/>
        </p:nvPicPr>
        <p:blipFill>
          <a:blip r:embed="rId2"/>
          <a:stretch/>
        </p:blipFill>
        <p:spPr>
          <a:xfrm>
            <a:off x="533520" y="762120"/>
            <a:ext cx="8015040" cy="580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Presidential Nominating Convention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he Nuts &amp; Bol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58" name="Group 17"/>
          <p:cNvGrpSpPr/>
          <p:nvPr/>
        </p:nvGrpSpPr>
        <p:grpSpPr>
          <a:xfrm>
            <a:off x="685800" y="1447920"/>
            <a:ext cx="7723080" cy="5157720"/>
            <a:chOff x="685800" y="1447920"/>
            <a:chExt cx="7723080" cy="5157720"/>
          </a:xfrm>
        </p:grpSpPr>
        <p:pic>
          <p:nvPicPr>
            <p:cNvPr id="59" name="Picture 16" descr="untitled"/>
            <p:cNvPicPr/>
            <p:nvPr/>
          </p:nvPicPr>
          <p:blipFill>
            <a:blip r:embed="rId1"/>
            <a:stretch/>
          </p:blipFill>
          <p:spPr>
            <a:xfrm>
              <a:off x="685800" y="1447920"/>
              <a:ext cx="7723080" cy="51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0"/>
            <p:cNvSpPr/>
            <p:nvPr/>
          </p:nvSpPr>
          <p:spPr>
            <a:xfrm>
              <a:off x="761760" y="6172200"/>
              <a:ext cx="7620120" cy="36828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arack and Michelle Obama at the 2004 Democratic National Conven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1" name="Picture 18" descr="untitled"/>
          <p:cNvPicPr/>
          <p:nvPr/>
        </p:nvPicPr>
        <p:blipFill>
          <a:blip r:embed="rId2"/>
          <a:stretch/>
        </p:blipFill>
        <p:spPr>
          <a:xfrm>
            <a:off x="7010280" y="685800"/>
            <a:ext cx="596880" cy="62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untitled"/>
          <p:cNvPicPr/>
          <p:nvPr/>
        </p:nvPicPr>
        <p:blipFill>
          <a:blip r:embed="rId3"/>
          <a:stretch/>
        </p:blipFill>
        <p:spPr>
          <a:xfrm>
            <a:off x="1905120" y="762120"/>
            <a:ext cx="583920" cy="58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7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Nominating Conven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962520" cy="5334120"/>
          </a:xfrm>
          <a:prstGeom prst="rect">
            <a:avLst/>
          </a:prstGeom>
          <a:solidFill>
            <a:srgbClr val="ffe701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n assembly held by political parties every four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sually held in late summer before the general election in Nov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he Democratic and Republican parties hold nominating conventions as do third parties [ex:  Green Party, Libertarian Party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1045"/>
          <p:cNvGrpSpPr/>
          <p:nvPr/>
        </p:nvGrpSpPr>
        <p:grpSpPr>
          <a:xfrm>
            <a:off x="4800600" y="1066680"/>
            <a:ext cx="4064040" cy="5457960"/>
            <a:chOff x="4800600" y="1066680"/>
            <a:chExt cx="4064040" cy="5457960"/>
          </a:xfrm>
        </p:grpSpPr>
        <p:pic>
          <p:nvPicPr>
            <p:cNvPr id="67" name="Picture 1044" descr="untitled"/>
            <p:cNvPicPr/>
            <p:nvPr/>
          </p:nvPicPr>
          <p:blipFill>
            <a:blip r:embed="rId1"/>
            <a:stretch/>
          </p:blipFill>
          <p:spPr>
            <a:xfrm>
              <a:off x="4800600" y="1066680"/>
              <a:ext cx="4064040" cy="536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30"/>
            <p:cNvSpPr/>
            <p:nvPr/>
          </p:nvSpPr>
          <p:spPr>
            <a:xfrm>
              <a:off x="5257800" y="5791320"/>
              <a:ext cx="3200400" cy="7333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George W. and Laura Bush at the                                          2000 Republican Conv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1" descr="untitled"/>
          <p:cNvPicPr/>
          <p:nvPr/>
        </p:nvPicPr>
        <p:blipFill>
          <a:blip r:embed="rId1"/>
          <a:stretch/>
        </p:blipFill>
        <p:spPr>
          <a:xfrm>
            <a:off x="1600200" y="1066680"/>
            <a:ext cx="5818320" cy="3988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Purposes of Nominating Convention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057400" y="46483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1980 Republican National Convention in Detroit, Michi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5181480"/>
            <a:ext cx="7543800" cy="14479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at the convention adopt a party plat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gates to the convention elect that party’s nominees for President and Vice-presi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026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What’s a Party Platform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343400" cy="449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Party Platform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statement of principles and objectives a political party and a candidate supports in order to win the general ele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360" indent="-324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Georgia"/>
              </a:rPr>
              <a:t>Plank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dividual topics in a pa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 platform (ex:  abortion, war in Ir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436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29"/>
          <p:cNvSpPr/>
          <p:nvPr/>
        </p:nvSpPr>
        <p:spPr>
          <a:xfrm>
            <a:off x="5257800" y="5943600"/>
            <a:ext cx="3048120" cy="5202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artoon satirizing the 1896 Democratic Party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032" descr="untitled"/>
          <p:cNvPicPr/>
          <p:nvPr/>
        </p:nvPicPr>
        <p:blipFill>
          <a:blip r:embed="rId1"/>
          <a:stretch/>
        </p:blipFill>
        <p:spPr>
          <a:xfrm>
            <a:off x="5181480" y="1143000"/>
            <a:ext cx="317520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026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2004 Platform Them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657600" cy="3733920"/>
          </a:xfrm>
          <a:prstGeom prst="rect">
            <a:avLst/>
          </a:prstGeom>
          <a:solidFill>
            <a:srgbClr val="6699ff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Democratic Party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cc0000"/>
                </a:solidFill>
                <a:latin typeface="Georgia"/>
              </a:rPr>
              <a:t>Strong at Home, Respected in the Worl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0240" y="1828800"/>
            <a:ext cx="3809880" cy="3733920"/>
          </a:xfrm>
          <a:prstGeom prst="rect">
            <a:avLst/>
          </a:prstGeom>
          <a:solidFill>
            <a:srgbClr val="cc00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publican Par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Georgia"/>
              </a:rPr>
              <a:t>A Safer World and a More Hopeful America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038"/>
          <p:cNvSpPr/>
          <p:nvPr/>
        </p:nvSpPr>
        <p:spPr>
          <a:xfrm>
            <a:off x="609480" y="5791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How are these themes simil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39"/>
          <p:cNvSpPr/>
          <p:nvPr/>
        </p:nvSpPr>
        <p:spPr>
          <a:xfrm>
            <a:off x="5867280" y="5791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imes New Roman"/>
              </a:rPr>
              <a:t>Differ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1040" descr="untitled"/>
          <p:cNvPicPr/>
          <p:nvPr/>
        </p:nvPicPr>
        <p:blipFill>
          <a:blip r:embed="rId1"/>
          <a:stretch/>
        </p:blipFill>
        <p:spPr>
          <a:xfrm>
            <a:off x="609480" y="431640"/>
            <a:ext cx="990720" cy="99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6" name="Picture 1041" descr="untitled"/>
          <p:cNvPicPr/>
          <p:nvPr/>
        </p:nvPicPr>
        <p:blipFill>
          <a:blip r:embed="rId2"/>
          <a:stretch/>
        </p:blipFill>
        <p:spPr>
          <a:xfrm>
            <a:off x="7696080" y="457200"/>
            <a:ext cx="1003320" cy="1041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7" name="Picture 1043" descr="untitled"/>
          <p:cNvPicPr/>
          <p:nvPr/>
        </p:nvPicPr>
        <p:blipFill>
          <a:blip r:embed="rId3"/>
          <a:stretch/>
        </p:blipFill>
        <p:spPr>
          <a:xfrm>
            <a:off x="1371600" y="3809880"/>
            <a:ext cx="2082960" cy="1650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44" descr="untitled"/>
          <p:cNvPicPr/>
          <p:nvPr/>
        </p:nvPicPr>
        <p:blipFill>
          <a:blip r:embed="rId4"/>
          <a:stretch/>
        </p:blipFill>
        <p:spPr>
          <a:xfrm>
            <a:off x="5334120" y="3733920"/>
            <a:ext cx="2692440" cy="168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Who are </a:t>
            </a:r>
            <a:r>
              <a:rPr b="1" i="1" lang="en-US" sz="4000" spc="-1" strike="noStrike">
                <a:solidFill>
                  <a:srgbClr val="ffff00"/>
                </a:solidFill>
                <a:latin typeface="Georgia"/>
              </a:rPr>
              <a:t>Delegates</a:t>
            </a: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5181480"/>
            <a:ext cx="8077320" cy="106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Delegat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voting representative to the party nominating co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1" descr="untitled"/>
          <p:cNvPicPr/>
          <p:nvPr/>
        </p:nvPicPr>
        <p:blipFill>
          <a:blip r:embed="rId1"/>
          <a:stretch/>
        </p:blipFill>
        <p:spPr>
          <a:xfrm>
            <a:off x="1905120" y="1295280"/>
            <a:ext cx="2298600" cy="341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untitled"/>
          <p:cNvPicPr/>
          <p:nvPr/>
        </p:nvPicPr>
        <p:blipFill>
          <a:blip r:embed="rId2"/>
          <a:stretch/>
        </p:blipFill>
        <p:spPr>
          <a:xfrm>
            <a:off x="5105520" y="1295280"/>
            <a:ext cx="2374920" cy="342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Delegate Sele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4114800" cy="38862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Proportiona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Primary system used by the </a:t>
            </a:r>
            <a:r>
              <a:rPr b="1" lang="en-US" sz="2400" spc="-1" strike="noStrike">
                <a:solidFill>
                  <a:srgbClr val="cc0000"/>
                </a:solidFill>
                <a:latin typeface="Georgia"/>
              </a:rPr>
              <a:t>Democratic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andidates are allocated the same percentage of a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delegates as they received in popular vo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00240" y="1828440"/>
            <a:ext cx="3962520" cy="388620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Winner-take-al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ystem used in most </a:t>
            </a:r>
            <a:r>
              <a:rPr b="1" lang="en-US" sz="2400" spc="-1" strike="noStrike">
                <a:solidFill>
                  <a:srgbClr val="003366"/>
                </a:solidFill>
                <a:latin typeface="Georgia"/>
              </a:rPr>
              <a:t>Republican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pri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winner of the popular vote in that state receives all that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 deleg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1455480" cy="1160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1371600" cy="10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4:03:33Z</dcterms:created>
  <dc:creator>Julie Strong</dc:creator>
  <dc:description/>
  <dc:language>en-US</dc:language>
  <cp:lastModifiedBy>hberndt</cp:lastModifiedBy>
  <dcterms:modified xsi:type="dcterms:W3CDTF">2009-11-12T20:13:33Z</dcterms:modified>
  <cp:revision>92</cp:revision>
  <dc:subject/>
  <dc:title>PowerPoint Presentation</dc:title>
</cp:coreProperties>
</file>